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A1F-F895-4EB9-B645-06D3E1E1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24A-5CA1-4AFF-B728-228EE3C3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C367-61BD-4C7E-86B6-59A66FA5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D2D-C2BA-4EFF-A941-F2A1365A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A3A5-8A54-4B68-A4DD-62F16807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C216-58CF-461C-BA97-AFEE8152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D02E-E0EE-4EA0-818E-E5CDF51D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2077-C63D-48D1-9739-77080B14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5036-5EC5-4A35-BA23-3C28667D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CD3B-6CBD-48E4-9148-A0565F39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D566-0CF0-45CE-B0CE-C315BF28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7F1C-2FFC-4FAC-874A-DA9A94B7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A1C7-465C-4AFE-BD79-143489A3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BB6E-6A06-4235-A93D-06B7FA60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236F-17BF-4FA0-B7B1-074FD13A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84C4-74A8-497B-BCBB-83232289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D2AC-713B-4D5B-9976-E2309AE7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0E6-8A2B-47BA-A115-082B3E03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237-15B3-4493-99A5-9A6FF559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800C-7EEC-4FBF-9B27-2C075661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B80-45E6-4774-A617-B31AED01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FD7-B8EF-4BFF-8FEB-8805A5EF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F7D8-705E-4659-BC1E-B4C3B472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0406-DD44-462E-8591-46361E90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808C-67A5-4714-98CF-FEF576C87C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2036-FFB6-47FF-8E4B-F7A6F47EA5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99"/>
                </a:solidFill>
                <a:latin typeface="Copperplate Gothic Bold"/>
              </a:rPr>
              <a:t>La  Propuesta  de  Pago Readecuabl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Una alternativa para evitar las incidencias macroeconómicas e instituc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n los procesos de reestructuración de deuda del sector priv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33200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05240" cy="762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3840" y="611496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Dr. Juan A. An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ff99"/>
                </a:solidFill>
                <a:latin typeface="Arial"/>
              </a:rPr>
              <a:t>Propuestas Readecuables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opuesta Readecuable Automát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iene definidos los componentes económicos financieros que se ajustan ante cambios predeterminados. Los grados de “sensibilidad” de la propuesta están poderad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ahoma"/>
              </a:rPr>
              <a:t>Propuesta Readecuable (negocial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s aquella propuesta que prevé un procedimiento de reajuste ante los cambios macroeconómicos e institucionales identificados previamente por el deudor y los acreedores en la propuesta originar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La viabilidad legal en la Ley 24522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égimen de Propuestas Amplia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ey 19551 art. 42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ey 24522 art. 43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Tahoma"/>
              </a:rPr>
              <a:t>“… </a:t>
            </a:r>
            <a:r>
              <a:rPr b="1" i="1" lang="es-ES" sz="1800" spc="-1" strike="noStrike">
                <a:solidFill>
                  <a:srgbClr val="009999"/>
                </a:solidFill>
                <a:latin typeface="Tahoma"/>
              </a:rPr>
              <a:t>o en cualquier otro acuerdo que se obtenga con conformidad suficiente dentro de cada categoría, y en relación con el total de los acreedores a los cuales se les formulará propuesta …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stric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o dependa de la voluntad del deudor (art. 43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láusulas iguales para los acreedores dentro de cada categoría (art. 43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esulte aprobada por mayoría de acreedores (art. 45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o sea abusiva y en fraude a la ley (art. 52 inc. 4º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utonomía de la voluntad (art. 1197 Cód. Civi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rt. 19 de la Constitución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Forma y Contenido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vención Adaptativ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xpres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Modalidad Adoptad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étodo Automátic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ego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Variables integrantes del riesgo macroeconómico e institu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terminación precis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decuada Inform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La “espera automática” de la solicitud de quiebra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mero incumplimiento deriva en Quiebra (art. 63 – Ley 2452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áusula d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NO PEDIR LA QUIEBRA DURANTE EL PROCESO DE READECU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 activa por denuncia de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curs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ité de Acreed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cláusula establece una </a:t>
            </a:r>
            <a:r>
              <a:rPr b="0" lang="en-US" sz="2400" spc="-1" strike="noStrike">
                <a:solidFill>
                  <a:srgbClr val="ff481d"/>
                </a:solidFill>
                <a:latin typeface="Tahoma"/>
              </a:rPr>
              <a:t>ESPERA no RENU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Espera: no implica la pérdida de derechos sino una demora temporal en su ejerci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Renuncia: la restricción del art. 872 del Código Civ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El Procedimiento de Readecuación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Tiemp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lazo determinado para la readecuació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Acceso a Inform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mplia Información para el Comité de Acreedor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Régimen de Mayorí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ayorías del art. 45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uevas Categorí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odificar el régimen de mayorí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ben dar la conformidad los mismos acreedores, los “tardíos”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ategorías cancelada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Inclusión de privilegiad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Consultor Téc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iseño de propuesta, predefinido o a elección del Comité de Acreedores, posibles rol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Sistema Combin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mbinación de negocial puro con consultor técn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La Readecuación y la Homologación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Algunas precisiones e interroga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homologación de la propuesta originaria = Nov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homologación de la propuesta readecuada no es novación, porque no se modifica la propuesta originaria (art. 801 Cód. Civ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fectos respecto de la totalidad de los acreedor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Puede generar un pago menor al original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problema del “abuso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“cramdown power” su posible ap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Algunas variables a considerar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 Es posible establecer un procedimiento que active el sistema mas de una vez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 Se podrían incorporar acreedores postconcursales a la readecuación de la propuesta originaria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 Se podría combinar el sistema de reajuste de la propuesta, con un A.P.E. por las deudas postconcursales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 Se podría establecer que si fracasa la readecuación de la propuesta se aplique antes de decretar la quiebra, el procedimiento previsto en el art. 48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50920" y="1557360"/>
            <a:ext cx="46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Tahoma"/>
              </a:rPr>
              <a:t>Muchas Graci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280" y="5877000"/>
            <a:ext cx="2505240" cy="761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684840" y="47628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Dr. Juan A. An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Historia Económica Argentina </a:t>
            </a:r>
            <a:br>
              <a:rPr sz="4000"/>
            </a:b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1955-2006</a:t>
            </a:r>
            <a:br>
              <a:rPr sz="4000"/>
            </a:b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Aspectos Institucionales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Gobier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De Derecho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De Facto (no surgidos de elecciones)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;  9 militares y 1 civi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inistros de Economía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Unidades Monetari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so Moneda Nacional: 1881/1970 :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so ley 18.188 : 1970/1983 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1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so Argentino: 1983/1985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1.000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stral: 1985/1992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1.000.000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Peso: 1992  hasta la fecha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 10.000.000.000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Historia Económica Argentina </a:t>
            </a:r>
            <a:br>
              <a:rPr sz="4000"/>
            </a:b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1955-2006</a:t>
            </a:r>
            <a:br>
              <a:rPr sz="4000"/>
            </a:b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Aspectos Normativos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es de Precios:  2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ciones Generales y Sectoriales: 64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larios, Aguinaldos y Asignaciones familiares: 23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diciones laborales: 16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visional: 3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uestos: 35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istencia a Empresas Privadas en dificultades: 6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yes: 39; Decretos: 25 y Comunicaciones del BCRA: 1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uda Pública o Externa: 17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 Monetaria: 3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égimen Cambiario: 16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ercio Exterior: 37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Arial"/>
              </a:rPr>
              <a:t>Normas de Emergencia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ley 9477 – 1914 – suspensión de plazo de las obligaciones de dar sumas de dine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mera Guerra Mundial: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bre Locaciones Urbanas y Rurales: 8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bre Carnes y otros productos: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la actualidad rige el estado de emergencia desde el año 200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La variabilidad Macroeconómica e Institucional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a el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eligro de Incumplimient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cuanto mas extensa la propuesta de p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umenta la tasa de financiamient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 la empresa en reestructuración, dada la incertidumbre de cumplimiento futu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a el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Riesgo de Qui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Arial"/>
              </a:rPr>
              <a:t>Incertidumbre y Riesgo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800"/>
                </a:solidFill>
                <a:latin typeface="Tahoma"/>
              </a:rPr>
              <a:t>Incertidumbre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eden determinarse los eventos futuros pero no es posible asignarle probabi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800"/>
                </a:solidFill>
                <a:latin typeface="Tahoma"/>
              </a:rPr>
              <a:t>Riesg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eden determinarse los eventos posibles y es posible asignarle a cada uno una probabilidad de que acontez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Riesgo y su  Clasificación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" sz="2400" spc="-1" strike="noStrike">
                <a:solidFill>
                  <a:srgbClr val="ff481d"/>
                </a:solidFill>
                <a:latin typeface="Tahoma"/>
              </a:rPr>
              <a:t>Riesg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se vincula con las </a:t>
            </a:r>
            <a:r>
              <a:rPr b="0" lang="es-ES" sz="2400" spc="-1" strike="noStrike">
                <a:solidFill>
                  <a:srgbClr val="ff481d"/>
                </a:solidFill>
                <a:latin typeface="Tahoma"/>
              </a:rPr>
              <a:t>variables no controlables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que se presenta en el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481d"/>
                </a:solidFill>
                <a:latin typeface="Tahoma"/>
              </a:rPr>
              <a:t>marco macroeconómico e institu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iesgo Polít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iesgo Económ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iesgo Crediti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iesgo Mone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iesgo de Merc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iesgo de Liquidez de Merc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iesgo Legal y Regulato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El  Problema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Ley 24522 presume que la situación política y económica del país se mantiene estable en el tiemp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propuesta concursal homologada no puede ser alterada durante la etapa de cumpl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y: es un contrato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resa: es un plan estratégico de pag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El incumplimiento trae aparejado la Quiebr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(art. 63 Ley 24522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La Hipótesis de Solución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ería permitirse la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adecuació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 la propuesta concursal, en caso de que se produzca un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mbio en las variables económicas e instituciona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que tornen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mposible de cumplir la propuest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 los efectos d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daptarl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 las nuevas circunstanci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 así permitir su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umplimient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 la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ontinuidad de la actividad empresar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20:19:05Z</dcterms:created>
  <dc:creator>Juan</dc:creator>
  <dc:description/>
  <dc:language>en-US</dc:language>
  <cp:lastModifiedBy>Juan</cp:lastModifiedBy>
  <dcterms:modified xsi:type="dcterms:W3CDTF">2006-06-20T20:56:35Z</dcterms:modified>
  <cp:revision>27</cp:revision>
  <dc:subject/>
  <dc:title>La  Propuesta  de  Pago Readecuable</dc:title>
</cp:coreProperties>
</file>