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8EB-3CDD-468C-9F7B-7E709D57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918C-B705-42C8-A3BE-06E32BCC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AC7-1089-4F86-B1BD-D53E78D0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069-8E29-44CF-9E92-ABFF3E25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A058-CFC1-4C53-95D2-DAE8D093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52FA-1204-43E7-9BC1-4EA2C71F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C366-7D57-4C95-A820-B0035E3C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BF0D-F57D-45A8-A581-0BB8B19B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F491-D5A1-4A13-BE5C-00272229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C14F-6D04-480A-8205-3EA4CB0B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66CF-BFB0-46B3-9DD9-9849A30E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2DC-BEC3-4B50-8B28-43A89A16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9C78-621F-4EBB-B13F-411F531C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F560-C172-4373-80D8-4E0E254A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E1BB-2DB3-4946-A1E9-37FEC6C9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638A-184A-408D-82C7-4AC613B0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1316-6208-4BD4-A772-03F8327D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771-CEDE-48A4-8197-0F4796CD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BB5-DB1B-47CD-8E45-12A61558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C28-17BF-482D-BEF9-AB2481B0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E19-9F61-43ED-96CA-BAF46FB5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346-8FDB-4AF5-B658-96D6F508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D33-14FC-464B-B46F-2E299614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FF9-F715-4EF7-AA0B-5883BB1B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BCF5-54AD-4BAA-92F1-894E3F4F3B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7734-F18F-4E9C-92BA-786C2CC8FE0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GILANCIA DEL SINDICO EN LA ADMINISTRACION DEL CONCURSAD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DR. C.P. RICARDO H. SABOR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ISITA AL DOMICILIO CONSTITUIDO Y ESTABLECIMIENTO PARA ANALIZA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UC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BJETIVO TRAZADO POR LOS DIRECT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PECTO ADMINISTRATIVO-CON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VIMIENTOS DE FONDOS A PARTIR FECHA PRESENTACION EN CONCUR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UMPLIMIENTO OBLIGACIONES POSCONCURS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LANIFICACION DE LA TARE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TRU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MAR CONOCIMIENTO DE LA ACTIVIDAD DESARROLL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OBAR COMPRAS Y VENTAS A PARTIR FECHA PRESENTAC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TUACION RELATIVA EN EL MERC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OCIMIENTO DE LAS DIFICULTADES QUE MOTIVARON PRESENTACION CONCUR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 DE SANEAMIENTO EMPRES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ROL DESTINO DE RECURSOS ECONOMICOS-FINANCIER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ICACION DE AREAS CRIT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MPLIMIENTO ART 16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CTOS SUJETOS A AUTORIZAC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CTOS PROHIBID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SPECTOS ADMINISTRATIVOS-CONTAB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PERVISION CONTROL INTE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ALISIS LEGALIDA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ULSA DE LIB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TROL REGISTROS INFORMAT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VENTAR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TUACION FISCAL Y PREVISI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TROL SEGUROS EN RIES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TROL PAGOS POSCONCURS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FORM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PORTUNIDAD Y FRECU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TENI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OVIMIENTO FOND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LEVAMIENTO CONTABI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ESVIACIONES – DEFICIT/SUPERAV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STADO CUMPLIMIENTO OBLIGACIONES FISCALES Y PREVISIONA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UEVOS CONTRAT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VERTENCIA SITUACIONES EN PELIGRO RESPECTO DE LOS INTERESES DEL CONCURS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UMPLIMIENTO OBLIGACIONES SOCIETARI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SIVOS LABORALES DENUNCIADOS POR DEUD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LACION CON ART 14 Inc 1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AREAS DE INFORMAC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FORME SOBRE EXISTENCIA OTROS CREDITOS LABOR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TUACION FUTURA TRABAJADORES RESPECTO SUSPENSION CONVENCIONES COLECTIVAS DE TRABAJ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ECUENC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BER DE INFORMACION TRANSACCIONES ECONOMICAS SOSPECHO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T 17 POR INCUMPLIMIENTO ART 1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EFICACIA DE LOS AC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ESIGANCION COADMINISTRADOR – VEEDOR / INTERVENTOR CONTROLAD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PARACION ADMINISTRAC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19:51:47Z</dcterms:created>
  <dc:creator>Ricardo Sabor</dc:creator>
  <dc:description/>
  <dc:language>en-US</dc:language>
  <cp:lastModifiedBy>Ricardo Sabor</cp:lastModifiedBy>
  <dcterms:modified xsi:type="dcterms:W3CDTF">2006-06-26T21:33:48Z</dcterms:modified>
  <cp:revision>6</cp:revision>
  <dc:subject/>
  <dc:title>VIGILANCIA DEL SINDICO EN LA ADMINISTRACION DEL CONCURSADO</dc:title>
</cp:coreProperties>
</file>