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693-A922-4C38-8825-55A99CFC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5F4A-38B6-4716-84A2-EF31F86C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0972-F735-4429-89EB-752FFA14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355-2E24-4CA5-863E-2E563332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627B-FB28-4A2C-B974-55ED8AB4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B518-02DC-4D5C-81DC-70C74DA8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606F-FD8A-4CFA-AE90-961D26F3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5402-52F5-4775-917E-FF028990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A1E9-3C5F-4F68-80D6-7E5938B1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3D4A-CAE0-4B34-9DD4-878E2320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26BB-C88C-4FE6-AD91-7E0C7042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3742-9F10-474E-AB15-145AE069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3F32-3C0B-41E1-95C0-9101AF27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E1A6-2B2E-48F4-9996-4E9F7FED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7BE2-F3C8-41C3-9C81-27907A6E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1F13-0F7A-4DE8-AB4F-7B2AFF40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7474-E128-4435-BA77-680DA11A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096-AE88-4B03-9CEB-E1F812F7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AABB-1A9B-4CE7-847A-6C6F4B15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7099-F652-4640-AE4C-AD1E49D4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67BB-8FF7-4BD6-AA94-9B8F7B85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6A47-4BB3-4B6B-A6DF-E955BB54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268D-6186-44F8-8A5A-7817F69C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808D-6E85-4507-B78E-546C4C5B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2E17-B8EC-4F10-974E-F7CCEF64458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C36E-FB20-49DC-A6E5-BB08C606ADC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cccc"/>
                </a:solidFill>
                <a:latin typeface="Times New Roman"/>
              </a:rPr>
              <a:t>REGIMEN DE FACILIDADES DE PAGO</a:t>
            </a:r>
            <a:br>
              <a:rPr sz="4400"/>
            </a:br>
            <a:r>
              <a:rPr b="1" lang="es-MX" sz="3200" spc="-1" strike="noStrike">
                <a:solidFill>
                  <a:srgbClr val="33cccc"/>
                </a:solidFill>
                <a:latin typeface="Times New Roman"/>
              </a:rPr>
              <a:t>Aplicable a Empresas Concursadas</a:t>
            </a:r>
            <a:r>
              <a:rPr b="1" lang="es-MX" sz="4400" spc="-1" strike="noStrike">
                <a:solidFill>
                  <a:srgbClr val="33cccc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33cc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s-MX" sz="4400" spc="-1" strike="noStrike">
                <a:solidFill>
                  <a:srgbClr val="33cccc"/>
                </a:solidFill>
                <a:latin typeface="Times New Roman"/>
              </a:rPr>
              <a:t>CIUDAD DE BUENOS AIRES</a:t>
            </a:r>
            <a:br>
              <a:rPr sz="4400"/>
            </a:br>
            <a:r>
              <a:rPr b="1" lang="es-MX" sz="3200" spc="-1" strike="noStrike">
                <a:solidFill>
                  <a:srgbClr val="33cccc"/>
                </a:solidFill>
                <a:latin typeface="Times New Roman"/>
              </a:rPr>
              <a:t>SHyF.2722-2004 y DGR.3788-04/381-05</a:t>
            </a:r>
            <a:endParaRPr b="0" lang="en-US" sz="32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CADUCIDAD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aus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ora acumulada en el pago de la segunda cuota y siguientes supere los 90 días corri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fec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nace la exigibilidad de la deuda originaria más intereses y sancio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udas en estado judicial suspendido, renace la facultad de proseguir las ac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DEUDAS COMPRENDIDAS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bligaciones con vencimiento anterior al 1 de enero del año del acogimiento con mora no inferior a 90 dí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BL; Patentes vehículos; Publicidad; Mejoras; Uso y ocupación vía pública; Embarcaciones; Abasto; Ingresos Brut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Todas las multas aplicadas por la D.G.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EXCLUSIONES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ducidades de planes de pa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tribuyentes con quiebra decret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udas del Decreto 606-199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tribuyentes con condena penal por ilícitos tributarios contra el Gobierno de la Ciu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udas de agentes de recaudación, también por la omisión de actuar como t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udas por uso y ocupación vía pública (art. 27 Ley Tarifaria 2004 y concordantes anterior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ACOGIMIENTO AL REGIMEN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esentación con denuncia de las obligaciones fiscales adeud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ormulari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Forma y modalidades correspondiente a cada impuesto y mul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ago de la primera cuota, sin m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stitución de domicilio especial en CAB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ago de gastos y honorarios de ejecuciones fis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ACOGIMIENTO  INGR. BRUTOS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ener presentadas las DDJJ a regulariz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sulta de Estado de Cta.cte.registrada(Anexo 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esentar solicitud de acogimiento (Anexo 2 y 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ocumento de Identidad y constancia de CUIT del responsable del plan (original y fotocopia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reditar personería en caso de presentación en representación de terce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ACOGIMIENTO AL REGIMEN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mpresas Concurs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 Conformidad del Síndico ratificada por el Juz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alidez de la Presenta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incumplimiento de los requisitos implica nulidad de pleno derecho, sin necesidad de comunicació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fectos del acog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llanamiento automático a la pretensión del Fisc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nuncia al término corrido de la prescrip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sistimiento de la acción y el derecho de los recursos administrativos y judiciales promov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nuncia del derecho a repetir total o parcial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DETERMINACION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uda a regulariz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apital más interés vigente a la fecha de acogimiento hasta el último día del mes en que se formali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o pueden compensarse saldos a fav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uo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Hasta 60 mensuales y consecu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IB. Deuda &lt; $ 50.000: cuota $ 100.- antes de inter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IB. Deudas mayores: cuota $ 1000.- antes de inter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mp.Padrón: Idem $ 30.- y $ 1.000.- respectiv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ultas DGR. Deuda &lt; $ 100.000: cuota $ 500 sin i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ultas DGR. Deudas mayores: cuota $ 5.000 sin i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go fuera de término con interés resarcitorio del C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DETERMINACION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uo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órmula:   C = 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imes New Roman"/>
              </a:rPr>
              <a:t>Vi (1 + i)</a:t>
            </a:r>
            <a:r>
              <a:rPr b="0" lang="es-MX" sz="36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(1 + i)</a:t>
            </a:r>
            <a:r>
              <a:rPr b="0" lang="es-MX" sz="3600" spc="-1" strike="noStrike" baseline="30000">
                <a:solidFill>
                  <a:srgbClr val="ffffff"/>
                </a:solidFill>
                <a:latin typeface="Times New Roman"/>
              </a:rPr>
              <a:t>n-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: importe cuota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: total adeudad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: número de cuota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: tasa mensual financi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DETERMINACION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ancelación anticip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ólo total, con reducción de intereses s/fórmul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órmula:   S =  C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imes New Roman"/>
              </a:rPr>
              <a:t> (1 + i)</a:t>
            </a:r>
            <a:r>
              <a:rPr b="0" lang="es-MX" sz="36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n-p-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 (1 + i)</a:t>
            </a:r>
            <a:r>
              <a:rPr b="0" lang="es-MX" sz="3600" spc="-1" strike="noStrike" baseline="30000">
                <a:solidFill>
                  <a:srgbClr val="ffffff"/>
                </a:solidFill>
                <a:latin typeface="Times New Roman"/>
              </a:rPr>
              <a:t>n-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: importe cuo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: saldo adeudado (neto de intereses a fecha “p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: número de cuotas abonadas a la cance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: tasa mensual financi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5:55:16Z</dcterms:created>
  <dc:creator> </dc:creator>
  <dc:description/>
  <dc:language>en-US</dc:language>
  <cp:lastModifiedBy>Jorge</cp:lastModifiedBy>
  <dcterms:modified xsi:type="dcterms:W3CDTF">2006-06-26T23:25:33Z</dcterms:modified>
  <cp:revision>66</cp:revision>
  <dc:subject/>
  <dc:title>PROYECTO DE LEY    Expte.40-PE-03</dc:title>
</cp:coreProperties>
</file>