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2BA-B361-4154-8E6C-0E20961F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87E-7325-41ED-AA07-6054880E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E53-8844-4DB1-A91C-65D12D62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764-3896-4D68-8E08-11BC4E8C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AD3-9370-4DEF-BE50-989F4138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F753-1631-458E-B53C-9A8EA28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566B-10C8-4325-9A9B-41BAE92A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F433-4019-47F4-98B0-67D20FB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66A1-8154-4A52-A540-F051B11C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B9F-4758-4C28-8094-0DDF82F6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3F5F-E487-46F6-85E9-FAAD200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00A-6FEF-48D1-A919-70F1AF4C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F93-900F-4E30-8B3B-8E4B109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AF7-E7A1-47EC-90DC-B078F0C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4EF-33D1-4628-A7AD-EF50C374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55DC-12A7-4F42-9A70-FAA3DE72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8D5A-9070-4572-AEF5-E3B167D7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49D-44D0-47D6-AAB6-BF7EDB68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FEC-9249-4863-ACD2-DFFFF55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3FC-8FE4-4051-A154-6D28D4EC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EE2-5F12-4B1C-B68B-6707699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CB2-F6B7-4CA6-9552-A4C3988A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699-B2A6-45D5-A942-3FB029B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859-AEFF-429E-9D9B-8AA141F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B50-0AD6-402B-9F37-2673A849FC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4199-6CBE-4180-AF60-4A365673C0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REGIMEN DE FACILIDADES DE PAGO</a:t>
            </a:r>
            <a:br>
              <a:rPr sz="4400"/>
            </a:br>
            <a:r>
              <a:rPr b="1" lang="es-MX" sz="3200" spc="-1" strike="noStrike">
                <a:solidFill>
                  <a:srgbClr val="33cccc"/>
                </a:solidFill>
                <a:latin typeface="Times New Roman"/>
              </a:rPr>
              <a:t>Aplicable a Empresas Concursadas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CIUDAD DE BUENOS AIRES</a:t>
            </a:r>
            <a:br>
              <a:rPr sz="4400"/>
            </a:br>
            <a:r>
              <a:rPr b="1" lang="es-MX" sz="3200" spc="-1" strike="noStrike">
                <a:solidFill>
                  <a:srgbClr val="33cccc"/>
                </a:solidFill>
                <a:latin typeface="Times New Roman"/>
              </a:rPr>
              <a:t>SHyF.2722-2004 y DGR.3788-04/381-05</a:t>
            </a:r>
            <a:endParaRPr b="0" lang="en-US" sz="32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CADUCIDAD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u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ora acumulada en el pago de la segunda cuota y siguientes supere los 90 días cor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nace la exigibilidad de la deuda originaria más intereses y sancio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en estado judicial suspendido, renace la facultad de proseguir las 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UDAS COMPRENDIDA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bligaciones con vencimiento anterior al 1 de enero del año del acogimiento con mora no inferior a 90 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BL; Patentes vehículos; Publicidad; Mejoras; Uso y ocupación vía pública; Embarcaciones; Abasto; Ingresos Bru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odas las multas aplicadas por la D.G.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EXCLUSIONE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ducidades de planes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ibuyentes con quiebra decret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del Decreto 606-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ibuyentes con condena penal por ilícitos tributarios contra el Gobierno de la Ciu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de agentes de recaudación, también por la omisión de actuar como 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por uso y ocupación vía pública (art. 27 Ley Tarifaria 2004 y concordantes anterio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entación con denuncia de las obligaciones fiscales adeud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rmulari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orma y modalidades correspondiente a cada impuesto y mul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go de la primera cuota, sin 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itución de domicilio especial en CA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go de gastos y honorarios de ejecuciones fis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 INGR. BRUTO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ner presentadas las DDJJ a regulariz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ulta de Estado de Cta.cte.registrada(Anexo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entar solicitud de acogimiento (Anexo 2 y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ocumento de Identidad y constancia de CUIT del responsable del plan (original y fotocopi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reditar personería en caso de presentación en representación de terc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Concurs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Conformidad del Síndico ratificada por el Juz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idez de la Pres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incumplimiento de los requisitos implica nulidad de pleno derecho, sin necesidad de comunic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 del acog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lanamiento automático a la pretensión del Fis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uncia al término corrido de la prescri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istimiento de la acción y el derecho de los recursos administrativos y judiciales promov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uncia del derecho a repetir total o parc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 a regulariz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pital más interés vigente a la fecha de acogimiento hasta el último día del mes en que se formal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pueden compensarse saldos a fa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asta 60 mensuales y consecu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IB. Deuda &lt; $ 50.000: cuota $ 100.- ante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IB. Deudas mayores: cuota $ 1000.- ante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.Padrón: Idem $ 30.- y $ 1.000.- respectiv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ultas DGR. Deuda &lt; $ 100.000: cuota $ 500 sin 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ultas DGR. Deudas mayores: cuota $ 5.000 sin 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o fuera de término con interés resarcitorio del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órmula:   C =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 (1 + i)</a:t>
            </a:r>
            <a:r>
              <a:rPr b="0" lang="es-MX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1 + i)</a:t>
            </a:r>
            <a:r>
              <a:rPr b="0" lang="es-MX" sz="3600" spc="-1" strike="noStrike" baseline="30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: importe cuot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: total adeuda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: número de cuot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: tasa mensual finan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celación anticip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ólo total, con reducción de intereses s/fórmul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órmula:   S =  C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 (1 + i)</a:t>
            </a:r>
            <a:r>
              <a:rPr b="0" lang="es-MX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n-p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 (1 + i)</a:t>
            </a:r>
            <a:r>
              <a:rPr b="0" lang="es-MX" sz="3600" spc="-1" strike="noStrike" baseline="30000">
                <a:solidFill>
                  <a:srgbClr val="ffffff"/>
                </a:solidFill>
                <a:latin typeface="Times New Roman"/>
              </a:rPr>
              <a:t>n-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: importe cu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: saldo adeudado (neto de intereses a fecha “p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: número de cuotas abonadas a la canc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: tasa mensual finan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55:16Z</dcterms:created>
  <dc:creator> </dc:creator>
  <dc:description/>
  <dc:language>en-US</dc:language>
  <cp:lastModifiedBy>Jorge</cp:lastModifiedBy>
  <dcterms:modified xsi:type="dcterms:W3CDTF">2006-06-27T02:38:28Z</dcterms:modified>
  <cp:revision>66</cp:revision>
  <dc:subject/>
  <dc:title>PROYECTO DE LEY    Expte.40-PE-03</dc:title>
</cp:coreProperties>
</file>