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4F9B7-44F0-4B0A-A933-C50EAFC18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400" y="419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B4F7E-24A0-499B-AF37-F57B6C40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943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9436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E3C83-B845-4040-821C-F89F127AA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7836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4268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40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7836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4268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78355-E169-4544-89B9-A99463A75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39C2C-D6E5-44B2-9D80-8E968AA6C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32767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81185" dir="2321969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AF7B-934E-4611-AD3E-2209B16F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F94EE-5151-48B8-9524-494182FD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19436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E561-C5B0-44F0-A0AA-F701CA92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8353F-EB3E-4A05-A001-D5A8E578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1523520"/>
            <a:ext cx="7772400" cy="5299560"/>
          </a:xfrm>
          <a:prstGeom prst="rect">
            <a:avLst/>
          </a:prstGeom>
          <a:noFill/>
          <a:ln w="0">
            <a:noFill/>
          </a:ln>
          <a:effectLst>
            <a:outerShdw dist="81185" dir="2321969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7CFF-DC6E-4070-AB02-6709F878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9436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4A1F-69EE-43AF-90D7-1948CA22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400" y="32767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81185" dir="2321969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D145D-73D3-4631-AE2F-0E5DC357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943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19436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862C8-03C0-4418-A098-D3FF0F3C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943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419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0E44-79EE-4F97-B34B-6900FBE8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419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29FDB-A86E-4B40-8F34-E03FAC9B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1943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19436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D4FF-C18A-47F1-BF4B-C9BFE806D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7836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268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7836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24268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32AB-BF80-4F6C-B18B-6D72EC284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4EB83-0A98-4E36-82A2-D60F520B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9436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A9C42-2CC8-4DDE-8549-D0F5068B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92E86-897B-49FA-A20A-6D7EEC2E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1523520"/>
            <a:ext cx="7772400" cy="5299560"/>
          </a:xfrm>
          <a:prstGeom prst="rect">
            <a:avLst/>
          </a:prstGeom>
          <a:noFill/>
          <a:ln w="0">
            <a:noFill/>
          </a:ln>
          <a:effectLst>
            <a:outerShdw dist="81185" dir="2321969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A8E05-7712-490F-955F-42D85C06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9436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E3DEA-6394-4100-853A-BB5951B0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943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9436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E988E-549A-4A1D-B8DA-621DAD9A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943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400" y="419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9DDAE-30C6-4892-AA55-544B62DB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F0D6-BE29-48DD-B5E4-CEA4351D586F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6D6D-2427-45C4-983D-D1436A026A1E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adasso@cpsnet.com.ar" TargetMode="External"/><Relationship Id="rId2" Type="http://schemas.openxmlformats.org/officeDocument/2006/relationships/hyperlink" Target="mailto:aadasso@cpsnet.com.ar" TargetMode="External"/><Relationship Id="rId3" Type="http://schemas.openxmlformats.org/officeDocument/2006/relationships/hyperlink" Target="mailto:aadasso@cpsnet.com.ar" TargetMode="External"/><Relationship Id="rId4" Type="http://schemas.openxmlformats.org/officeDocument/2006/relationships/hyperlink" Target="mailto:aadasso@cpsnet.com.ar" TargetMode="External"/><Relationship Id="rId5" Type="http://schemas.openxmlformats.org/officeDocument/2006/relationships/hyperlink" Target="mailto:aadasso@cpsnet.com.ar" TargetMode="External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11360" y="790200"/>
            <a:ext cx="7721280" cy="29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 Antiqua"/>
              </a:rPr>
              <a:t>        </a:t>
            </a:r>
            <a:r>
              <a:rPr b="1" lang="es-ES_tradnl" sz="4400" spc="-1" strike="noStrike">
                <a:solidFill>
                  <a:srgbClr val="ffff00"/>
                </a:solidFill>
                <a:latin typeface="Book Antiqua"/>
              </a:rPr>
              <a:t>Estudio Dasso &amp; Schapira</a:t>
            </a:r>
            <a:br>
              <a:rPr sz="4400"/>
            </a:br>
            <a:br>
              <a:rPr sz="44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ffff00"/>
                </a:solidFill>
                <a:latin typeface="Book Antiqua"/>
              </a:rPr>
              <a:t>         </a:t>
            </a:r>
            <a:r>
              <a:rPr b="1" lang="es-ES_tradnl" sz="3600" spc="-1" strike="noStrike">
                <a:solidFill>
                  <a:srgbClr val="ffff00"/>
                </a:solidFill>
                <a:latin typeface="comic"/>
              </a:rPr>
              <a:t>Dr. Ariel Angel Dasso</a:t>
            </a:r>
            <a:endParaRPr b="0" lang="en-US" sz="36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04560" y="5222880"/>
            <a:ext cx="8839080" cy="1424160"/>
          </a:xfrm>
          <a:prstGeom prst="rect">
            <a:avLst/>
          </a:prstGeom>
          <a:noFill/>
          <a:ln w="0">
            <a:noFill/>
          </a:ln>
          <a:effectLst>
            <a:outerShdw dist="81185" dir="2321969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3300"/>
                </a:solidFill>
                <a:latin typeface="Tahoma"/>
              </a:rPr>
              <a:t>Uruguay 618 – 2º “C”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s-ES_tradnl" sz="1500" spc="-1" strike="noStrike">
                <a:solidFill>
                  <a:srgbClr val="ff3300"/>
                </a:solidFill>
                <a:latin typeface="Tahoma"/>
              </a:rPr>
              <a:t>Tel: (011) 4371-7474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3300"/>
                </a:solidFill>
                <a:latin typeface="Tahoma"/>
              </a:rPr>
              <a:t>           </a:t>
            </a:r>
            <a:r>
              <a:rPr b="1" lang="es-ES_tradnl" sz="1500" spc="-1" strike="noStrike">
                <a:solidFill>
                  <a:srgbClr val="ff3300"/>
                </a:solidFill>
                <a:latin typeface="Tahoma"/>
              </a:rPr>
              <a:t>E-mail: </a:t>
            </a:r>
            <a:r>
              <a:rPr b="0" lang="es-ES_tradnl" sz="1500" spc="-1" strike="noStrike" u="sng">
                <a:solidFill>
                  <a:srgbClr val="c0c0c0"/>
                </a:solidFill>
                <a:uFillTx/>
                <a:latin typeface="Tahoma"/>
                <a:hlinkClick r:id="rId1"/>
              </a:rPr>
              <a:t>aadasso</a:t>
            </a:r>
            <a:r>
              <a:rPr b="0" lang="es-ES_tradnl" sz="1500" spc="-1" strike="noStrike" u="sng">
                <a:solidFill>
                  <a:srgbClr val="c0c0c0"/>
                </a:solidFill>
                <a:uFillTx/>
                <a:latin typeface="Tahoma"/>
                <a:hlinkClick r:id="rId2"/>
              </a:rPr>
              <a:t>@</a:t>
            </a:r>
            <a:r>
              <a:rPr b="0" lang="es-ES_tradnl" sz="1500" spc="-1" strike="noStrike" u="sng">
                <a:solidFill>
                  <a:srgbClr val="c0c0c0"/>
                </a:solidFill>
                <a:uFillTx/>
                <a:latin typeface="Tahoma"/>
                <a:hlinkClick r:id="rId3"/>
              </a:rPr>
              <a:t>cpsnet</a:t>
            </a:r>
            <a:r>
              <a:rPr b="0" lang="es-ES_tradnl" sz="1500" spc="-1" strike="noStrike" u="sng">
                <a:solidFill>
                  <a:srgbClr val="c0c0c0"/>
                </a:solidFill>
                <a:uFillTx/>
                <a:latin typeface="Tahoma"/>
                <a:hlinkClick r:id="rId4"/>
              </a:rPr>
              <a:t>.com.</a:t>
            </a:r>
            <a:r>
              <a:rPr b="0" lang="es-ES_tradnl" sz="1500" spc="-1" strike="noStrike" u="sng">
                <a:solidFill>
                  <a:srgbClr val="c0c0c0"/>
                </a:solidFill>
                <a:uFillTx/>
                <a:latin typeface="Tahoma"/>
                <a:hlinkClick r:id="rId5"/>
              </a:rPr>
              <a:t>ar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5222880"/>
            <a:ext cx="8839080" cy="0"/>
          </a:xfrm>
          <a:prstGeom prst="line">
            <a:avLst/>
          </a:prstGeom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924680" cy="5257800"/>
          </a:xfrm>
          <a:prstGeom prst="rect">
            <a:avLst/>
          </a:prstGeom>
          <a:noFill/>
          <a:ln w="0">
            <a:noFill/>
          </a:ln>
          <a:effectLst>
            <a:outerShdw dist="81185" dir="2321969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57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100" spc="-1" strike="noStrike">
                <a:solidFill>
                  <a:srgbClr val="ffffff"/>
                </a:solidFill>
                <a:latin typeface="Tahoma"/>
              </a:rPr>
              <a:t>  </a:t>
            </a:r>
            <a:r>
              <a:rPr b="0" lang="es-AR" sz="2100" spc="-1" strike="noStrike">
                <a:solidFill>
                  <a:srgbClr val="ffff00"/>
                </a:solidFill>
                <a:latin typeface="Tahoma"/>
              </a:rPr>
              <a:t>       </a:t>
            </a:r>
            <a:r>
              <a:rPr b="1" lang="es-AR" sz="2100" spc="-1" strike="noStrike">
                <a:solidFill>
                  <a:srgbClr val="ff0000"/>
                </a:solidFill>
                <a:latin typeface="Tahoma"/>
                <a:ea typeface="Tahoma"/>
              </a:rPr>
              <a:t>ART. 52</a:t>
            </a:r>
            <a:r>
              <a:rPr b="1" lang="es-AR" sz="2100" spc="-1" strike="noStrike">
                <a:solidFill>
                  <a:srgbClr val="ff0000"/>
                </a:solidFill>
                <a:latin typeface="Tahoma"/>
              </a:rPr>
              <a:t>:  HOMOLOGACIÓN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   </a:t>
            </a:r>
            <a:r>
              <a:rPr b="1" lang="es-AR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-         P.E. 17.4</a:t>
            </a:r>
            <a:r>
              <a:rPr b="1" lang="es-AR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	</a:t>
            </a:r>
            <a:r>
              <a:rPr b="1" lang="es-AR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reestablecía el 48: 24.522</a:t>
            </a:r>
            <a:br>
              <a:rPr sz="2000"/>
            </a:br>
            <a:r>
              <a:rPr b="1" lang="es-AR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 -         elimina el plazo (error?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</a:t>
            </a:r>
            <a:r>
              <a:rPr b="1" lang="es-AR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Prop</a:t>
            </a:r>
            <a:r>
              <a:rPr b="1" lang="es-AR" sz="2000" spc="-1" strike="noStrike" baseline="30000">
                <a:solidFill>
                  <a:srgbClr val="ffff00"/>
                </a:solidFill>
                <a:latin typeface="Tahoma"/>
                <a:ea typeface="Times New Roman"/>
              </a:rPr>
              <a:t>ta</a:t>
            </a:r>
            <a:r>
              <a:rPr b="1" lang="es-AR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ÚNICA, aprobada: “debe homologarla” </a:t>
            </a:r>
            <a:br>
              <a:rPr sz="2000"/>
            </a:br>
            <a:r>
              <a:rPr b="1" lang="es-AR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    (</a:t>
            </a:r>
            <a:r>
              <a:rPr b="1" lang="es-AR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inc. 1</a:t>
            </a:r>
            <a:r>
              <a:rPr b="1" lang="es-AR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)</a:t>
            </a:r>
            <a:br>
              <a:rPr sz="2000"/>
            </a:br>
            <a:br>
              <a:rPr sz="2000"/>
            </a:br>
            <a:r>
              <a:rPr b="1" lang="es-AR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Categorización  y consiguiente</a:t>
            </a:r>
            <a:br>
              <a:rPr sz="2000"/>
            </a:br>
            <a:r>
              <a:rPr b="1" lang="es-AR" sz="1900" spc="-1" strike="noStrike">
                <a:solidFill>
                  <a:srgbClr val="ffff00"/>
                </a:solidFill>
                <a:latin typeface="Tahoma"/>
                <a:ea typeface="Times New Roman"/>
              </a:rPr>
              <a:t>    PLURALIDAD</a:t>
            </a:r>
            <a:r>
              <a:rPr b="1" lang="es-AR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de propuestas: “debe homologar” (</a:t>
            </a:r>
            <a:r>
              <a:rPr b="1" lang="es-AR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45 y 67</a:t>
            </a:r>
            <a:r>
              <a:rPr b="1" lang="es-AR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)</a:t>
            </a:r>
            <a:br>
              <a:rPr sz="2000"/>
            </a:br>
            <a:r>
              <a:rPr b="1" lang="es-AR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   (</a:t>
            </a:r>
            <a:r>
              <a:rPr b="1" lang="es-AR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inc. 2 a</a:t>
            </a:r>
            <a:r>
              <a:rPr b="1" lang="es-AR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)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AR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          </a:t>
            </a:r>
            <a:r>
              <a:rPr b="1" lang="es-AR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3124080"/>
            <a:ext cx="4572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4114800"/>
            <a:ext cx="4572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324480"/>
          </a:xfrm>
          <a:prstGeom prst="rect">
            <a:avLst/>
          </a:prstGeom>
          <a:noFill/>
          <a:ln w="0">
            <a:noFill/>
          </a:ln>
          <a:effectLst>
            <a:outerShdw dist="81185" dir="2321969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(</a:t>
            </a:r>
            <a:r>
              <a:rPr b="1" lang="es-AR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inc.2  b.</a:t>
            </a:r>
            <a:r>
              <a:rPr b="1" lang="es-AR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)    </a:t>
            </a:r>
            <a:r>
              <a:rPr b="1" lang="es-AR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i="1" lang="es-AR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CRAMDOWN POWER</a:t>
            </a:r>
            <a:r>
              <a:rPr b="1" lang="es-AR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No mayoría en </a:t>
            </a:r>
            <a:r>
              <a:rPr b="1" i="1" lang="es-AR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todas: “puede” </a:t>
            </a:r>
            <a:r>
              <a:rPr b="1" lang="es-AR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homologar </a:t>
            </a:r>
            <a:br>
              <a:rPr sz="2000"/>
            </a:br>
            <a:r>
              <a:rPr b="1" lang="es-AR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                       </a:t>
            </a:r>
            <a:r>
              <a:rPr b="1" lang="es-AR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1.-      en u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Tahoma"/>
                <a:ea typeface="Tahoma"/>
              </a:rPr>
              <a:t>                               </a:t>
            </a:r>
            <a:r>
              <a:rPr b="1" lang="es-AR" sz="2000" spc="-1" strike="noStrike">
                <a:solidFill>
                  <a:srgbClr val="ffff00"/>
                </a:solidFill>
                <a:latin typeface="Tahoma"/>
                <a:ea typeface="Tahoma"/>
              </a:rPr>
              <a:t>2.-      ¾ quir. (Proy. 89/97: 2/3) (</a:t>
            </a:r>
            <a:r>
              <a:rPr b="1" lang="es-AR" sz="2000" spc="-1" strike="noStrike">
                <a:solidFill>
                  <a:srgbClr val="ffffff"/>
                </a:solidFill>
                <a:latin typeface="Tahoma"/>
                <a:ea typeface="Tahoma"/>
              </a:rPr>
              <a:t>INSO: 245</a:t>
            </a:r>
            <a:r>
              <a:rPr b="1" lang="es-AR" sz="2000" spc="-1" strike="noStrike">
                <a:solidFill>
                  <a:srgbClr val="ffff00"/>
                </a:solidFill>
                <a:latin typeface="Tahoma"/>
                <a:ea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                       </a:t>
            </a:r>
            <a:r>
              <a:rPr b="1" lang="es-AR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3.-      No discri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Reunidas</a:t>
            </a:r>
            <a:r>
              <a:rPr b="1" lang="es-A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                               </a:t>
            </a:r>
            <a:r>
              <a:rPr b="1" lang="es-AR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-</a:t>
            </a:r>
            <a:r>
              <a:rPr b="1" lang="es-A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es-AR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Disc</a:t>
            </a:r>
            <a:r>
              <a:rPr b="1" lang="es-AR" sz="2000" spc="-1" strike="noStrike" baseline="30000">
                <a:solidFill>
                  <a:srgbClr val="ffff00"/>
                </a:solidFill>
                <a:latin typeface="Tahoma"/>
                <a:ea typeface="Times New Roman"/>
              </a:rPr>
              <a:t>N</a:t>
            </a:r>
            <a:r>
              <a:rPr b="1" lang="es-AR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: si impide elegir cat. q´ acep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                                   </a:t>
            </a:r>
            <a:r>
              <a:rPr b="1" lang="es-AR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-</a:t>
            </a:r>
            <a:r>
              <a:rPr b="1" lang="es-A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   </a:t>
            </a:r>
            <a:r>
              <a:rPr b="1" lang="es-AR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si no elige: no –       q´     “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                      </a:t>
            </a:r>
            <a:r>
              <a:rPr b="1" lang="es-AR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4.-     No – q´ en hipot. de Q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 </a:t>
            </a:r>
            <a:r>
              <a:rPr b="1" lang="es-AR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-</a:t>
            </a:r>
            <a:r>
              <a:rPr b="1" lang="es-A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      </a:t>
            </a:r>
            <a:r>
              <a:rPr b="1" lang="es-AR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Priv. Esp. No puede ser impuesto (</a:t>
            </a:r>
            <a:r>
              <a:rPr b="1" lang="es-AR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inc. 3</a:t>
            </a:r>
            <a:r>
              <a:rPr b="1" lang="es-AR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 </a:t>
            </a:r>
            <a:r>
              <a:rPr b="1" lang="es-AR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-</a:t>
            </a:r>
            <a:r>
              <a:rPr b="1" lang="es-A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      </a:t>
            </a:r>
            <a:r>
              <a:rPr b="1" lang="es-AR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No abusivos o en fraude a la L. (</a:t>
            </a:r>
            <a:r>
              <a:rPr b="1" lang="es-AR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inc. 4</a:t>
            </a:r>
            <a:r>
              <a:rPr b="1" lang="es-AR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1752480" y="990720"/>
            <a:ext cx="381240" cy="3657600"/>
          </a:xfrm>
          <a:custGeom>
            <a:avLst/>
            <a:gdLst>
              <a:gd name="textAreaLeft" fmla="*/ 243720 w 381240"/>
              <a:gd name="textAreaRight" fmla="*/ 381600 w 38124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5T19:47:57Z</dcterms:created>
  <dc:creator>Usuario pc</dc:creator>
  <dc:description/>
  <dc:language>en-US</dc:language>
  <cp:lastModifiedBy>.</cp:lastModifiedBy>
  <dcterms:modified xsi:type="dcterms:W3CDTF">2004-03-25T19:57:52Z</dcterms:modified>
  <cp:revision>21</cp:revision>
  <dc:subject/>
  <dc:title>        Estudio Dasso &amp; Schapira             Dr. Ariel Angel Dasso</dc:title>
</cp:coreProperties>
</file>