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11660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18751-5BFB-490D-8F7F-B197C3BF6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EB4B1-87AC-4EC5-AFCB-35BEFF8D1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F6D89-8C30-4B69-ABC5-67D446322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E1F28-C6C3-4BDB-9E19-8DE07EA97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AE8C2-6396-4841-9EAF-532382F9A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C9FD0-C39B-4678-89EC-EA339B324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02540-0218-45FF-B317-49EFD71F9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174E7-8B13-4B1F-BE6A-7550FADB2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CDDF7-B224-46B6-BD11-93DB8364A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DC307-F735-4CAD-8E3F-3ED55FF15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71237-9561-471A-9308-76B2875B7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5ED51-12B1-4EE4-B7CB-4530E5475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0723F-9478-43A6-983A-136A578CA00E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Armando Stolki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9144000" cy="58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MODIFICACIONES DE LA LEY 26.08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NUEVO PRONTO PAGO LABOR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CONT. DR. ARMANDO STOLKINER</a:t>
            </a:r>
            <a:r>
              <a:rPr b="0" lang="es-ES_tradnl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hecke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685800"/>
            <a:ext cx="9144000" cy="5579280"/>
          </a:xfrm>
          <a:prstGeom prst="rect">
            <a:avLst/>
          </a:prstGeom>
          <a:solidFill>
            <a:srgbClr val="ffff99"/>
          </a:solidFill>
          <a:ln w="572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0) INMUTABILIDAD HONORARIOS PESE AL ABRUMADOR AUMENTO DE TAREAS DEL FUNCIONARIO CONCURSAL, LA ESCALA ARANCELARIA SIGUE SIENDO LA MISMA Y EL ART. 257 SE MANTIENE "INCLAUDICABLE" (FRANCISCO JUNVENT BAS, PARAFRASEANDO A ARIEL DASSO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Armando Stolki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04920" y="380880"/>
            <a:ext cx="8381880" cy="131292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2) PRONTO PAGO "AUTOMATICO" (Art. 14 Inc. 11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Armando Stolki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981080"/>
            <a:ext cx="9144000" cy="46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Times New Roman"/>
              </a:rPr>
              <a:t>- Modalidad oficiosa - </a:t>
            </a:r>
            <a:r>
              <a:rPr b="0" lang="es-MX" sz="3000" spc="-1" strike="noStrike">
                <a:solidFill>
                  <a:srgbClr val="000000"/>
                </a:solidFill>
                <a:latin typeface="Times New Roman"/>
              </a:rPr>
              <a:t>Informe Labora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Times New Roman"/>
              </a:rPr>
              <a:t>- Vista al síndico por diez días desde aceptación del carg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Times New Roman"/>
              </a:rPr>
              <a:t>a) Pasivos laborales denunciados por  el deudo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Times New Roman"/>
              </a:rPr>
              <a:t>b) Auditoría en la documentación  legal y contabl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Times New Roman"/>
              </a:rPr>
              <a:t>Existencia de otros créditos laborales sujetos pronto pag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Times New Roman"/>
              </a:rPr>
              <a:t>Ampliación de conceptos sujetos a pronto pag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Times New Roman"/>
              </a:rPr>
              <a:t>c) Situación por suspensión convenio colect.trabajo (Art. 20 L.C.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MX" sz="3000" spc="-1" strike="noStrike">
                <a:solidFill>
                  <a:srgbClr val="000000"/>
                </a:solidFill>
                <a:latin typeface="Times New Roman"/>
              </a:rPr>
              <a:t>- Definición mejoras de conv. colect. trabajo sobre LC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MX" sz="3000" spc="-1" strike="noStrike">
                <a:solidFill>
                  <a:srgbClr val="000000"/>
                </a:solidFill>
                <a:latin typeface="Times New Roman"/>
              </a:rPr>
              <a:t>- Convenio colectivo de crisis</a:t>
            </a:r>
            <a:r>
              <a:rPr b="0" lang="es-ES_tradnl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04920" y="380880"/>
            <a:ext cx="8381880" cy="70344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Times New Roman"/>
              </a:rPr>
              <a:t>3) </a:t>
            </a: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PROCEDIMIENT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Armando Stolki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422360"/>
            <a:ext cx="9144000" cy="54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Times New Roman"/>
              </a:rPr>
              <a:t>-Plazo de diez días de emitido informe, el juez autorizará pago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Times New Roman"/>
              </a:rPr>
              <a:t>a) Remuneraciones debidas al trabajado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Times New Roman"/>
              </a:rPr>
              <a:t>b) Indemnizaciones por accidentes de trabaj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3000" spc="-1" strike="noStrike">
                <a:solidFill>
                  <a:srgbClr val="000000"/>
                </a:solidFill>
                <a:latin typeface="Times New Roman"/>
              </a:rPr>
              <a:t>y enfermedades profesional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Times New Roman"/>
              </a:rPr>
              <a:t>c) Otras indemnizaciones enunciadas en la le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Times New Roman"/>
              </a:rPr>
              <a:t>¿Traslado al concursado y al pretenso acreedor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Times New Roman"/>
              </a:rPr>
              <a:t>¿Apelación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Times New Roman"/>
              </a:rPr>
              <a:t>Derecho de defens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04920" y="380880"/>
            <a:ext cx="8381880" cy="131292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s-ES" sz="4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PRONTO PAGO NO INCLUIDO (sistema clásico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Armando Stolki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828800"/>
            <a:ext cx="9144000" cy="434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Times New Roman"/>
              </a:rPr>
              <a:t>-Innecesariedad verificación o sentencia previ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Times New Roman"/>
              </a:rPr>
              <a:t>-Vista al síndico y al concursad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Times New Roman"/>
              </a:rPr>
              <a:t>-Denegación total o parcial del crédito cuando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000" spc="-1" strike="noStrike">
                <a:solidFill>
                  <a:srgbClr val="000000"/>
                </a:solidFill>
                <a:latin typeface="Times New Roman"/>
              </a:rPr>
              <a:t>-Créditos que no surgieren de los libros obligatorio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000" spc="-1" strike="noStrike">
                <a:solidFill>
                  <a:srgbClr val="000000"/>
                </a:solidFill>
                <a:latin typeface="Times New Roman"/>
              </a:rPr>
              <a:t>-Existencia de dudas sobre su origen o legitimida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000" spc="-1" strike="noStrike">
                <a:solidFill>
                  <a:srgbClr val="000000"/>
                </a:solidFill>
                <a:latin typeface="Times New Roman"/>
              </a:rPr>
              <a:t>-Se encontraren controvertido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000" spc="-1" strike="noStrike">
                <a:solidFill>
                  <a:srgbClr val="000000"/>
                </a:solidFill>
                <a:latin typeface="Times New Roman"/>
              </a:rPr>
              <a:t>-Sospecha connivencia entre peticion. y concursad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04920" y="304920"/>
            <a:ext cx="8534160" cy="70344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5) CARACTERISTIC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Armando Stolki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1279440"/>
            <a:ext cx="9144000" cy="55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Times New Roman"/>
              </a:rPr>
              <a:t>- Apelabilidad     -    Acreedor, Concursado, ¿Síndico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Times New Roman"/>
              </a:rPr>
              <a:t>- Admisibilidad: carácter cosa juzgada material y verificación concursa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Times New Roman"/>
              </a:rPr>
              <a:t>- Denegación: habilita al acreedor para  iniciar o continuar juicio ante juez laboral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Times New Roman"/>
              </a:rPr>
              <a:t>- ¿Si el actor opta por la vía de verificación concursal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Times New Roman"/>
              </a:rPr>
              <a:t>- No imposición costas al acreedor laboral salvo connivencia, temeridad o malicia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04920" y="380880"/>
            <a:ext cx="8381880" cy="70344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6) INFORMACION A PRODUCI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Armando Stolki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1295280"/>
            <a:ext cx="9144000" cy="48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Times New Roman"/>
              </a:rPr>
              <a:t>-Síndico debe emitir un informe mensual (Art. 14 Inc. 12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Times New Roman"/>
              </a:rPr>
              <a:t>-¿Hasta homologación?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ES_tradnl" sz="3000" spc="-1" strike="noStrike">
                <a:solidFill>
                  <a:srgbClr val="000000"/>
                </a:solidFill>
                <a:latin typeface="Times New Roman"/>
              </a:rPr>
              <a:t>-Evolución de la empresa </a:t>
            </a:r>
            <a:r>
              <a:rPr b="0" lang="es-ES_tradnl" sz="3000" spc="-1" strike="noStrike">
                <a:solidFill>
                  <a:srgbClr val="000000"/>
                </a:solidFill>
                <a:latin typeface="Times New Roman"/>
              </a:rPr>
              <a:t>(económ., finan. y patrim.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ES_tradnl" sz="3000" spc="-1" strike="noStrike">
                <a:solidFill>
                  <a:srgbClr val="000000"/>
                </a:solidFill>
                <a:latin typeface="Times New Roman"/>
              </a:rPr>
              <a:t>-Existencia de fondos líquidos disponibles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ES_tradnl" sz="3000" spc="-1" strike="noStrike">
                <a:solidFill>
                  <a:srgbClr val="000000"/>
                </a:solidFill>
                <a:latin typeface="Times New Roman"/>
              </a:rPr>
              <a:t>-Cumplimiento de normas legales y fiscal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000" spc="-1" strike="noStrike">
                <a:solidFill>
                  <a:srgbClr val="000000"/>
                </a:solidFill>
                <a:latin typeface="Times New Roman"/>
              </a:rPr>
              <a:t>- Audit. fiscal y eventual responsab. por deuda ajen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000" spc="-1" strike="noStrike">
                <a:solidFill>
                  <a:srgbClr val="000000"/>
                </a:solidFill>
                <a:latin typeface="Times New Roman"/>
              </a:rPr>
              <a:t>-Cumplim. formal de las presentac. juradas y pago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Times New Roman"/>
              </a:rPr>
              <a:t>-¿Plan de empresa- Factibilidad?</a:t>
            </a:r>
            <a:r>
              <a:rPr b="0" lang="es-ES_tradnl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hecke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04920" y="380880"/>
            <a:ext cx="8381880" cy="131292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Times New Roman"/>
              </a:rPr>
              <a:t>7) </a:t>
            </a: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FONDOS LIQUIDOS DISPONIB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0" y="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Armando Stolki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1911240"/>
            <a:ext cx="9372600" cy="451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900" spc="-1" strike="noStrike">
                <a:solidFill>
                  <a:srgbClr val="000000"/>
                </a:solidFill>
                <a:latin typeface="Times New Roman"/>
              </a:rPr>
              <a:t>Créditos abonados totalmente de existir fondos líquidos disponibles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900" spc="-1" strike="noStrike">
                <a:solidFill>
                  <a:srgbClr val="000000"/>
                </a:solidFill>
                <a:latin typeface="Times New Roman"/>
              </a:rPr>
              <a:t>a) Saldos mensuales de disponib. (¿Interpretación literal?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900" spc="-1" strike="noStrike">
                <a:solidFill>
                  <a:srgbClr val="000000"/>
                </a:solidFill>
                <a:latin typeface="Times New Roman"/>
              </a:rPr>
              <a:t>b) Disponibilidades menos erogaciones próximas (Saldo mínimo o “colchón de disponibilidades”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900" spc="-1" strike="noStrike">
                <a:solidFill>
                  <a:srgbClr val="000000"/>
                </a:solidFill>
                <a:latin typeface="Times New Roman"/>
              </a:rPr>
              <a:t>c) Estado de flujo de efectivo (RT8 y RT19 FACPCE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900" spc="-1" strike="noStrike">
                <a:solidFill>
                  <a:srgbClr val="000000"/>
                </a:solidFill>
                <a:latin typeface="Times New Roman"/>
              </a:rPr>
              <a:t>d) Presupuesto financiero (Cash Flow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900" spc="-1" strike="noStrike">
                <a:solidFill>
                  <a:srgbClr val="000000"/>
                </a:solidFill>
                <a:latin typeface="Times New Roman"/>
              </a:rPr>
              <a:t>e) Acercamiento a resultado explotación de la Ley 24522 (financiero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900" spc="-1" strike="noStrike">
                <a:solidFill>
                  <a:srgbClr val="000000"/>
                </a:solidFill>
                <a:latin typeface="Times New Roman"/>
              </a:rPr>
              <a:t>f) Mantenim.empresa y fuente de trabajo vs. acreed.laborales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hecke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04920" y="380880"/>
            <a:ext cx="8381880" cy="70344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Times New Roman"/>
              </a:rPr>
              <a:t>8) </a:t>
            </a: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AFECTACION MINIM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1447920"/>
            <a:ext cx="9144000" cy="53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000000"/>
                </a:solidFill>
                <a:latin typeface="Times New Roman"/>
              </a:rPr>
              <a:t>(1% DEL INGRESO MENSUAL DE LA CONCURSADA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000000"/>
                </a:solidFill>
                <a:latin typeface="Times New Roman"/>
              </a:rPr>
              <a:t>- En caso de no existir fondos líquidos disponibles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000000"/>
                </a:solidFill>
                <a:latin typeface="Times New Roman"/>
              </a:rPr>
              <a:t>- ¿Ingresos operativos y no operativos?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000000"/>
                </a:solidFill>
                <a:latin typeface="Times New Roman"/>
              </a:rPr>
              <a:t>- ¿Inclusión del IVA en el cómputo?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000000"/>
                </a:solidFill>
                <a:latin typeface="Times New Roman"/>
              </a:rPr>
              <a:t>- ¿Depósito a orden Juzgado o pago directo por concursada?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000000"/>
                </a:solidFill>
                <a:latin typeface="Times New Roman"/>
              </a:rPr>
              <a:t>- Situación en caso de imposibilidad financiera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000000"/>
                </a:solidFill>
                <a:latin typeface="Times New Roman"/>
              </a:rPr>
              <a:t>- ¿Veda concurso si no se puede destinar 1 % de ingresos?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000000"/>
                </a:solidFill>
                <a:latin typeface="Times New Roman"/>
              </a:rPr>
              <a:t>¿Factibilidad de desapoderamiento y embargos ejecutorios?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000000"/>
                </a:solidFill>
                <a:latin typeface="Times New Roman"/>
              </a:rPr>
              <a:t>Aplicación art. 17 L.C. (Original Metal S.A. s/ Conc.Prev.), Juzg.Nac. Com. 10/20</a:t>
            </a:r>
            <a:r>
              <a:rPr b="0" lang="es-ES_tradnl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Armando Stolki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hecke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304920" y="380880"/>
            <a:ext cx="8381880" cy="70344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Times New Roman"/>
              </a:rPr>
              <a:t>9) </a:t>
            </a: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CONCRECION PRONTO PAG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0" y="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Armando Stolki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752480"/>
            <a:ext cx="9144000" cy="420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Times New Roman"/>
              </a:rPr>
              <a:t>-Síndico elaborará plan de pago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3000" spc="-1" strike="noStrike">
                <a:solidFill>
                  <a:srgbClr val="000000"/>
                </a:solidFill>
                <a:latin typeface="Times New Roman"/>
              </a:rPr>
              <a:t>-Proporcional a los créditos y privilegio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Times New Roman"/>
              </a:rPr>
              <a:t>-¿Proyecto de distribución de fondos? Procedimient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Times New Roman"/>
              </a:rPr>
              <a:t>-Condiciones de igualdad (Banco Ararat , Sala C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Times New Roman"/>
              </a:rPr>
              <a:t>-Modificación de plan de pago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3000" spc="-1" strike="noStrike">
                <a:solidFill>
                  <a:srgbClr val="000000"/>
                </a:solidFill>
                <a:latin typeface="Times New Roman"/>
              </a:rPr>
              <a:t>-Base: informe mensual de la sindicatur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7T16:05:43Z</dcterms:created>
  <dc:creator>Diego Stolkiner</dc:creator>
  <dc:description/>
  <dc:language>en-US</dc:language>
  <cp:lastModifiedBy>Diego</cp:lastModifiedBy>
  <cp:lastPrinted>2002-06-13T17:57:49Z</cp:lastPrinted>
  <dcterms:modified xsi:type="dcterms:W3CDTF">2006-06-28T16:53:44Z</dcterms:modified>
  <cp:revision>165</cp:revision>
  <dc:subject/>
  <dc:title>Sin título de diapositiva</dc:title>
</cp:coreProperties>
</file>