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BFF-44B8-472B-AAE7-500F7D73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F60-5183-44ED-ADF2-248691EC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96D-4A52-4389-A455-2EE83E21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C70-4457-4E85-BAAF-591B9CA9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1B4-098A-47CF-9A26-94879DCC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416-23C6-4C93-83D8-A2D65EDF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0C0F-1D3B-40CA-9F3A-4E205E37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EC5-1281-4B05-8A4F-604114C5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A18-13C5-4E3D-8AC0-EF1EC45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EBC-CD30-426E-A3A6-905F2F8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9AD-B468-4104-8F50-BB3CB2B6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F08-FE1E-4954-9980-01CA158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C7B2-55B1-4F26-B367-DFDC2FD1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540E-C4BF-4326-B239-4D163D65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76D-D3DA-45B6-A9FD-8233E316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2455-F01B-422F-9185-5A1B628A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E958-49C5-497A-89B2-6ACFF78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6F3-E879-42B8-8F7E-5536CF0F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955-B514-4BD7-975C-69C06D50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E7D-C766-41CC-9D33-74959A6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AE6-3CF2-4870-BFBD-A0F0B36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D7E-F3E6-4621-9655-FB2BB4F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F91-9B68-4688-8736-40ACBFD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E16-7B07-47D6-BF4D-D9034E9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251-2CC5-42D0-985F-9C97AFC1836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BEF-7F37-4838-99AF-F9569EF18C3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égimen de facilidades de pago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ursados y falli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i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éditos privilegiad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maliz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ere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quisitos y condi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mpresas adquiri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hes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og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z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sentación de elemen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greso del pago a cuen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robación del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Funcionarios intervinie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Resolu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Notific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Rechazo del p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1267920"/>
            <a:ext cx="8226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osiciones comu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 - Título I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osiciones comu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700280"/>
            <a:ext cx="82263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Presentación de disket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Ingreso de las cuo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Caducidad de los pla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Actualización e intere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Ingreso de las cos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Procedimiento transitor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1267920"/>
            <a:ext cx="8226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tamiento de los créditos quirograf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 - Título 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éditos quirograf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700280"/>
            <a:ext cx="82263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Requisito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Formalización de la solicitu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Adquirentes art. 48 L. 245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Rechaz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Arial"/>
              </a:rPr>
              <a:t>Disconformidad del resto de acreedores – Trámite de terceros (art. 48 L. 24522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1267920"/>
            <a:ext cx="8226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osiciones complementar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 - Título 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osiciones complementar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700280"/>
            <a:ext cx="82263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nefici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ducción de contribuciones patron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atación con el Estado Nacio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celación de cuotas y pagos parci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ciones. Dependenci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romiso por créditos quirografari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osicione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co de aplic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jetos alcanza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éditos inclu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ligaciones exclui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de facilidades de pago para contribuyentes falli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 - Título 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i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os parciales. Improced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clus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di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udas en discusión administrativa, contencioso-administrativa o judi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es devenga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rantí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anz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al banc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ución de títulos públic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nda con regist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pote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al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341000"/>
            <a:ext cx="822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ogi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recimiento de garantí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lusión de la quiebra por aveni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z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entación de elemen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greso del pago a cu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icitud de avenimi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628280"/>
            <a:ext cx="82263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og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utas de evalu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robación del plan y garantías ofreci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icacia del plan aprob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icitud de avenimi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28280"/>
            <a:ext cx="82263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og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utas de evalu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robación del plan y garantías ofreci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icacia del plan aprob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de facilidades de pago para contribuyentes en concur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G (AFIP) 970 - Título I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02:55:07Z</dcterms:created>
  <dc:creator>*****</dc:creator>
  <dc:description/>
  <dc:language>en-US</dc:language>
  <cp:lastModifiedBy>*****</cp:lastModifiedBy>
  <dcterms:modified xsi:type="dcterms:W3CDTF">2006-06-30T02:58:34Z</dcterms:modified>
  <cp:revision>11</cp:revision>
  <dc:subject/>
  <dc:title>Régimen de facilidades de pago  Concursados y fallidos</dc:title>
</cp:coreProperties>
</file>