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3C9-CECF-4679-A1D1-979800FC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DE8-86EC-49E8-9A52-2C9FC7D7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E3D-C31B-4190-B160-7258B9E6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13A-0362-4009-AC74-F2DF72CB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E701-8A0A-4B9A-8443-3AD5AC16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E85-CA15-44DB-BB6D-079B5361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013C-2AF0-45C5-8320-23F077D7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A48E-EBF2-44BA-AD71-32ACA6B2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21A9-BF67-4B83-9CA7-E488281E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5930-23EF-45A0-AA2B-F2A4B4E5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AA95-000D-445C-B02A-7B8D8DB8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9EC-CD93-459F-AAF3-EFE68C60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859D-8287-45E7-8DF1-C58FF3B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C7BD-B710-45E6-AC80-698129D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4ECC-8B8B-4D99-9EFE-8AE31B81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104B-D807-487F-BD42-14A5BCF3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5298-0DF7-4A0F-960B-A6FD57BC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E01-5C69-44AC-B98D-51093FB1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C24-F780-408E-8474-8EDDD530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7E1-FD45-4038-A82F-D575B307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CA3-DF8F-4574-8792-FE01128F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A44-CE75-41D5-9A39-8E04C05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C2E-2CA8-4F5F-A9CB-48C88B9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EA3-D4D3-4353-8148-DB9BEBA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923D-42F6-4634-A2FC-DC4FE264E4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9952-6C57-4600-8E7D-8EE964CD4B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PLANES DE PAGO PARA EMPRESAS CONCURSADAS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PCIA. DE BUENOS AIRES</a:t>
            </a:r>
            <a:br>
              <a:rPr sz="4400"/>
            </a:b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PR. B1-2004  Modif. DPR. B67-2005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UDAS COMPRENDIDA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teriores a la fecha de la presentación concursal o quieb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ributos, sus intereses y multas (cuya aplicación corresponda a DPR Pcia. Bs.A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tenciones y Percepciones no ingresadas, y/o no rea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habilitación de Planes cadu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AL REGIME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entación de Form.R-71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cada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cada partida en Impuesto Inmobili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cada dominio en Impuesto a los automotores y embarcacione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el total del reclamo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nunciando el Nº de Expediente jud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ompañando autorización jud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sentación en lugares habilitados acreditando personer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AL REGIME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idez de la Presentació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jeta a verificación posterior por la DP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s acogimientos realizados en violación de la normativa, serán válidos sólo como DDJJ de la deu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fectos del acog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conocimiento de la deuda inclui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nuncia expresa a reclamo de repet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istimiento de la acción y el derecho de los recursos administrativos y judiciales promov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 a regulariz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pital más intereses (resarcitorios y punitorios) hasta la presentación concursal o la quie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asta 120 mensuales y consecu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IB. y Agentes de recaudación mínimo de $ 150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antes tributos mínimo de $ 50.- cada 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cimiento: Día 10 del mes subsiguiente al acogimiento y meses posteri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greso en Bco. Provincia de Bs. 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o fuera de término con interés resarcitorio art. 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lanes de hasta 36 cuotas sin intereses de financ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lanes  más de 36 y hasta 60 cuotas con intereses mediante coeficiente Tabla I (0,5% mensual s/sald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lanes  más de 60 y hasta 120 cuotas con intereses mediante coeficiente Tabla II (1% mensual s/sald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órmula:   Ch = CP + (DR – n x CP) x coe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h: cuota a pagar;  CP: cuota pu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R: deuda a regularizar;  n: cantidad de cuotas abon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ncelación anticipada (parcial o total) al valor de la cuota siguiente respecto del momento del p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CADUCIDAD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us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ora acumulada mayor a 60 días corr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ora de dos cuotas impagas al vto. de la sigu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uota impaga al cumplirse 3 meses del vto. de la últ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nace la exigibilidad de la deuda originaria más intereses y san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expide título ejecutivo por el saldo neto adeu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utación de las cuotas pag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mporte de la cuota pura respecto de la deuda liquid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rden: multas, sus intereses, impuesto periodo más antiguo (proporcionalmente gravamen e intere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REHABILITACION   DE   PLANES CADUCOS (permanente)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lanes caducos al 31-12-2004/31-12-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onto a regulariz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uotas puras vencidas e impa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+) Intereses del art.86 CF desde cada vencimiento hasta el último día del mes anterior al acogimiento al Plan DPR B49-2005/B04-2006 con la reducción de intereses fijada en el nuevo pl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+) Cuotas puras a ve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be incluirse también la deuda posconcu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orma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vista en la DPR B-49-2005 o la que en el futuro pueda reemplazarlo (DPR B04-200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55:16Z</dcterms:created>
  <dc:creator> </dc:creator>
  <dc:description/>
  <dc:language>en-US</dc:language>
  <cp:lastModifiedBy>Jorge</cp:lastModifiedBy>
  <dcterms:modified xsi:type="dcterms:W3CDTF">2006-06-27T02:35:06Z</dcterms:modified>
  <cp:revision>59</cp:revision>
  <dc:subject/>
  <dc:title>PROYECTO DE LEY    Expte.40-PE-03</dc:title>
</cp:coreProperties>
</file>