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65B6-48EC-4F83-9915-981B40F9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072E-E7D1-4057-9FFB-71D66FF5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B3A5-1BEE-4B1A-8A5F-DA5DAD15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E40F-55A2-4FDE-9225-704B4F8D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5E8D-FAA5-416B-AD72-90DDF49F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F326-2CB1-4852-8D09-EE1A2524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E695-1076-4497-8F17-89216F2B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5A95-E867-4372-8A7B-B49648C5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0B1A-4A77-4C96-86C0-022767FE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D83E-AA39-4D07-A822-9BD8A76C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8E15-6B8C-467E-9E53-E1209D9D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0A78-FB86-442D-B838-5939E3BA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805D-D623-42BC-8F07-C5052D8B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E1B6-8C7A-425D-BBEA-AB4D3C7C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62AA-87F6-4481-BD2F-6FD23C4D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E942-8AFF-48F9-A6ED-2228BE8C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A851-26D8-4236-933A-A5FB4C64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90C9-820A-412D-9F12-FF819498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2349-3FA3-4F75-8F44-5C80723A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B5C8-650B-437D-9E47-81653430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5419-331A-4C4B-A106-5CF00B4C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E78B-B313-45B1-AFA6-8644BC27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738E-7208-4291-B143-3CDF75B3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508E-7D8F-4D3F-A6AD-2FB2A722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4577-A59E-46AD-8AB1-8FE1827C4F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89DA-E2F4-4BA4-A793-6902773A0A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cccc"/>
                </a:solidFill>
                <a:latin typeface="Times New Roman"/>
              </a:rPr>
              <a:t>PLANES DE PAGO PARA EMPRESAS CONCURSADAS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33cc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s-MX" sz="4400" spc="-1" strike="noStrike">
                <a:solidFill>
                  <a:srgbClr val="33cccc"/>
                </a:solidFill>
                <a:latin typeface="Times New Roman"/>
              </a:rPr>
              <a:t>PCIA. DE BUENOS AIRES</a:t>
            </a:r>
            <a:br>
              <a:rPr sz="4400"/>
            </a:b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DPR. B1-2004  Modif. DPR. B67-2005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DEUDAS COMPRENDIDAS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nteriores a la fecha de la presentación concursal o quiebr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Tributos, sus intereses y multas (cuya aplicación corresponda a DPR Pcia. Bs.As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etenciones y Percepciones no ingresadas, y/o no realiz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ehabilitación de Planes cadu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ACOGIMIENTO AL REGIMEN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esentación de Form.R-711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or cada im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or cada partida en Impuesto Inmobili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or cada dominio en Impuesto a los automotores y embarcacione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or el total del reclamo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nunciando el Nº de Expediente jud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ompañando autorización jud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esentación en lugares habilitados acreditando personer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ACOGIMIENTO AL REGIMEN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alidez de la Presentación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ujeta a verificación posterior por la DP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os acogimientos realizados en violación de la normativa, serán válidos sólo como DDJJ de la deu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fectos del acog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conocimiento de la deuda incluid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nuncia expresa a reclamo de repeti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sistimiento de la acción y el derecho de los recursos administrativos y judiciales promov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DETERMINACION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uda a regulariz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apital más intereses (resarcitorios y punitorios) hasta la presentación concursal o la quie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uo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Hasta 120 mensuales y consecuti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IB. y Agentes de recaudación mínimo de $ 150.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stantes tributos mínimo de $ 50.- cada u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encimiento: Día 10 del mes subsiguiente al acogimiento y meses posteri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greso en Bco. Provincia de Bs. 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go fuera de término con interés resarcitorio art. 8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DETERMINACION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uo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lanes de hasta 36 cuotas sin intereses de financi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lanes  más de 36 y hasta 60 cuotas con intereses mediante coeficiente Tabla I (0,5% mensual s/sald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lanes  más de 60 y hasta 120 cuotas con intereses mediante coeficiente Tabla II (1% mensual s/sald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órmula:   Ch = CP + (DR – n x CP) x coefic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h: cuota a pagar;  CP: cuota pur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R: deuda a regularizar;  n: cantidad de cuotas abon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ancelación anticipada (parcial o total) al valor de la cuota siguiente respecto del momento del pa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CADUCIDAD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aus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ora acumulada mayor a 60 días corr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ora de dos cuotas impagas al vto. de la sigu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uota impaga al cumplirse 3 meses del vto. de la últ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fe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nace la exigibilidad de la deuda originaria más intereses y sancio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 expide título ejecutivo por el saldo neto adeud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mputación de las cuotas pag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mporte de la cuota pura respecto de la deuda liquid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rden: multas, sus intereses, impuesto periodo más antiguo (proporcionalmente gravamen e interes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REHABILITACION   DE   PLANES CADUCOS (permanente)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lanes caducos al  31-12-2004 / 31-12-20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onto a regulariz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uotas puras vencidas e impag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(+) Intereses del art.86 CF desde cada vencimiento hasta el último día del mes anterior al acogimiento al Plan DPR B49-2005/B04-2006 con la reducción de intereses fijada en el nuevo pl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(+) Cuotas puras a venc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be incluirse también la deuda posconcurs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orma de pa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evista en la DPR B-49-2005 o la que en el futuro pueda reemplazarlo (DPR B04-200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5:55:16Z</dcterms:created>
  <dc:creator> </dc:creator>
  <dc:description/>
  <dc:language>en-US</dc:language>
  <cp:lastModifiedBy>Jorge</cp:lastModifiedBy>
  <dcterms:modified xsi:type="dcterms:W3CDTF">2006-06-27T16:09:28Z</dcterms:modified>
  <cp:revision>60</cp:revision>
  <dc:subject/>
  <dc:title>PROYECTO DE LEY    Expte.40-PE-03</dc:title>
</cp:coreProperties>
</file>