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oin.wav" ContentType="audio/x-wav"/>
  <Override PartName="/ppt/media/drumroll.wav" ContentType="audio/x-wav"/>
  <Override PartName="/ppt/media/image6.gif" ContentType="image/gif"/>
  <Override PartName="/ppt/media/image5.gif" ContentType="image/gif"/>
  <Override PartName="/ppt/media/cashreg.wav" ContentType="audio/x-wav"/>
  <Override PartName="/ppt/media/image8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camera.wav" ContentType="audio/x-wav"/>
  <Override PartName="/ppt/media/chimes.wav" ContentType="audio/x-wav"/>
  <Override PartName="/ppt/media/image9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1.jpeg" ContentType="image/jpeg"/>
  <Override PartName="/ppt/media/breeze.wav" ContentType="audio/x-wav"/>
  <Override PartName="/ppt/media/image10.png" ContentType="image/png"/>
  <Override PartName="/ppt/media/push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624-DAEF-4B7C-86C8-17CFD28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613-5D0E-43E7-9106-6F38EE1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2E0-F6D5-4A04-A1AE-E87EFD94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648-B470-46E7-9755-AC7DB7CC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62B-D580-4876-BAFC-003FDDFB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D23-F925-4E7C-B00B-75914108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309-27D5-4567-885A-13932FB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4B5-DC11-4FE4-9CBF-447FF9D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8CB-D9FE-49B3-AEAE-FC3D8970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30E-8E40-4736-9538-32B4F4D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A31-63C2-446B-BD5B-9E8F58B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D25-5CED-40C6-9AFD-FE76E7A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594C-B1D1-4864-B42E-7D4225E0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coin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4900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no puede desconocerse que de las distintas verificaciones que tramitan  por ante los Tribunales del Fuero basadas en liquidaciones oficiosas de deuda se desprende que,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en gran medida, esas liquidaciones no se condicen con la realidad...”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734080"/>
            <a:ext cx="3313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Monotype Corsiva"/>
              </a:rPr>
              <a:t>CCom.Sala A, 29-9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34900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La norma es contraria a la Ley Concu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28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n-US" sz="4000" spc="-1" strike="noStrike">
                <a:solidFill>
                  <a:srgbClr val="ff6600"/>
                </a:solidFill>
                <a:latin typeface="Arial"/>
              </a:rPr>
              <a:t>verificación y graduación de créditos, pieza maestra del institu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a chiave di volta para Rocco –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nstituye una etapa de innegable importancia del proceso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, ya que </a:t>
            </a:r>
            <a:r>
              <a:rPr b="0" i="1" lang="en-US" sz="4000" spc="-1" strike="noStrike">
                <a:solidFill>
                  <a:srgbClr val="ff6600"/>
                </a:solidFill>
                <a:latin typeface="Arial"/>
              </a:rPr>
              <a:t>trata de controlar los auténticos titulares del derecho concursal – número, monto, naturaleza, grado, etc. – frente a los demás acreedores 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237360"/>
            <a:ext cx="33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Monotype Corsiva"/>
              </a:rPr>
              <a:t>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1773360"/>
            <a:ext cx="66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Arial Black"/>
              </a:rPr>
              <a:t>¿Un camino sin salida para el deu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 rot="20559600">
            <a:off x="539280" y="249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PROPUES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2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Frutiger SAIN It v.1"/>
              </a:rPr>
              <a:t>Reforma RG 9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2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Frutiger SAIN It v.1"/>
              </a:rPr>
              <a:t>Planteo inconstitucion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708280"/>
            <a:ext cx="817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concursada formuló su intención de acogerse a la RG 970/01 pero pretendiendo al mismo tiempo eximirse del cumplimiento de sus condiciones,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in haber cuestionado siquiera la constitucionalidad de la norma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6237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Com, Sala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2981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92720" y="4724280"/>
            <a:ext cx="3672000" cy="1224000"/>
          </a:xfrm>
          <a:prstGeom prst="wedgeRoundRectCallout">
            <a:avLst>
              <a:gd name="adj1" fmla="val -51685"/>
              <a:gd name="adj2" fmla="val -1219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K, Domin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reformar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471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9788" t="0" r="4021" b="56022"/>
          <a:stretch/>
        </p:blipFill>
        <p:spPr>
          <a:xfrm>
            <a:off x="1979640" y="333360"/>
            <a:ext cx="5122800" cy="2374920"/>
          </a:xfrm>
          <a:prstGeom prst="rect">
            <a:avLst/>
          </a:prstGeom>
          <a:ln w="57240">
            <a:solidFill>
              <a:srgbClr val="800080"/>
            </a:solidFill>
            <a:miter/>
          </a:ln>
          <a:effectLst>
            <a:outerShdw dist="107932" dir="2700000" blurRad="0" rotWithShape="0">
              <a:srgbClr val="d60093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2771640" y="5157720"/>
            <a:ext cx="367200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d6009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Dr. Domingo O. Ródri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drodriguez1@cponline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404640"/>
            <a:ext cx="144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1557360"/>
            <a:ext cx="28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309760"/>
            <a:ext cx="36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229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 Black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1052640"/>
            <a:ext cx="7559640" cy="374976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lbertus Extra Bold"/>
              </a:rPr>
              <a:t>LA ADHESIÓN A LOS PLANES DE FINANCIAMIENTO DEL FISCO NACIONAL Y LOS CRÉDITOS EN TRÁM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Resolución General</a:t>
            </a:r>
            <a:br>
              <a:rPr sz="4400"/>
            </a:b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 Nº9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egorización de estos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cesidad o no de obtener la conformidad expresa del F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ómputo o exclusión para establecer las mayorí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15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155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15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15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6640"/>
            <a:ext cx="9144000" cy="6021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T. 6. Cuando se trate de deudas en curso de discusión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deberán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, en el momento que resulte procedente,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allanarse o desistir y renunciar a toda acción y derecho, incluso al de repetición, y hacerse cargo de las costas que pudieran correspo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lack Chancery"/>
              </a:rPr>
              <a:t>Para las Quieb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9144000" cy="6021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T. 20. A fin de formalizar su acogimiento …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b) Allanarse o desistir y renunciar a toda acción y derecho, incluso el de repetición, cuando se tratare de deudas que se encuentren en curso de discusión administrativa, contencioso-administrativa o judicial y hacerse cargo de las costas que pudieren corresponder.”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lack Chancery"/>
              </a:rPr>
              <a:t>Para los Concursos Preven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68280"/>
            <a:ext cx="9144000" cy="5589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T. 39. </a:t>
            </a:r>
            <a:r>
              <a:rPr b="0" i="1" lang="en-US" sz="4000" spc="-1" strike="noStrike">
                <a:solidFill>
                  <a:srgbClr val="ff3300"/>
                </a:solidFill>
                <a:latin typeface="Arial"/>
              </a:rPr>
              <a:t>en caso que el contribuyente hubiera iniciado incidente de revisión de la deuda oportunamente declarada admisible, a los efectos de la adhesión al presente régimen, deberá desistir y renunciar a toda acción o derecho respecto de aquél, incluso el de repetición, asumiendo las costas que pudieran corresponder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-17136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Black Chancery"/>
              </a:rPr>
              <a:t>Para los Concursos preven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Black Chancery"/>
              </a:rPr>
              <a:t>Creditos quirograf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9360"/>
            <a:ext cx="842472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posibilidad de los deudores concursados o fallidos de acogerse a este plan de pagos y obtener el financiamiento está condicionada a la renuncia por parte del deudor a ejercer los legítimos derechos que le brinda la ley en defensa de su patrimonio cuando considera que la determinación que realice el Fisco es incorrec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1830240" y="5398920"/>
            <a:ext cx="1830240" cy="145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3789360"/>
            <a:ext cx="7704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Lucida Console"/>
              </a:rPr>
              <a:t>Debe asumir las costas del ju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flipH="1">
            <a:off x="6084720" y="3860640"/>
            <a:ext cx="43927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50"/>
                            </p:stCondLst>
                            <p:childTnLst>
                              <p:par>
                                <p:cTn id="128" nodeType="afterEffect" fill="hold" presetClass="exit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5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Motion origin="layout" path="M -0.10469 0.00555 L 0.95434 0.00555 E">
                                      <p:cBhvr>
                                        <p:cTn id="147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Validez certificados de deu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5152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eptar que el Fisco y las reparticiones públicas nunca se equivocan, sólo sería admisible si no atendiéramos a esta realidad: la cantidad de demandas de contribuyentes contra las entidades recaudadoras de impuestos, que han requerido la creación de Tribunales especiales llámense `Contencioso Administrativo´, `Tribunal Fiscal´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.”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6237360"/>
            <a:ext cx="33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Monotype Corsiva"/>
              </a:rPr>
              <a:t>Quintana Ferr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9:00:01Z</dcterms:created>
  <dc:creator>Rodriguez y Mendoza</dc:creator>
  <dc:description/>
  <dc:language>en-US</dc:language>
  <cp:lastModifiedBy>DOMINGO O. RODRIGUEZ</cp:lastModifiedBy>
  <dcterms:modified xsi:type="dcterms:W3CDTF">2006-06-28T03:09:55Z</dcterms:modified>
  <cp:revision>11</cp:revision>
  <dc:subject/>
  <dc:title>Diapositiva 1</dc:title>
</cp:coreProperties>
</file>